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0F7-06FB-4722-B796-BF71E59A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B86-0178-44D7-856E-11B1474E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FE5-0E3E-47DF-BB49-D3A51707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23D-717B-4A79-8C7A-380A82CC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EAB-55D8-4F3B-9950-43C71C4B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0B1-1453-4CE5-8E82-281EDAB0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5A7-8195-4800-B28A-3E41A6D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71C-6A6B-4147-8EF6-1E992A11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AE3-7F28-43F6-BEDD-7415ABB2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890-62FF-48BD-AD1B-864BBBB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60B-EC6B-4ABE-9B52-9ADC06EF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955-07AB-420E-A83C-FFDC86FF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FC07-A684-47B0-9BF9-306F71BDB2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Drama Vocabul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j0343201"/>
          <p:cNvPicPr/>
          <p:nvPr/>
        </p:nvPicPr>
        <p:blipFill>
          <a:blip r:embed="rId1"/>
          <a:stretch/>
        </p:blipFill>
        <p:spPr>
          <a:xfrm>
            <a:off x="380880" y="19051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282442"/>
          <p:cNvPicPr/>
          <p:nvPr/>
        </p:nvPicPr>
        <p:blipFill>
          <a:blip r:embed="rId2"/>
          <a:stretch/>
        </p:blipFill>
        <p:spPr>
          <a:xfrm>
            <a:off x="5181480" y="1905120"/>
            <a:ext cx="304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reen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script for a screen, including instructions for sets and camera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64008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Verbal Iro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A person says one thing and means another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When Mercutio is dealt a fatal wound but calls it only a “scrat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bal Irony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great!” (when something isn’t really 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Sure I don’t mind to wait until you finish your conversation, I know it’s way more important than what I am fixing to teach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wo households both alike in dignity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4d4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d4d4df"/>
                </a:solidFill>
                <a:latin typeface="Arial"/>
              </a:rPr>
              <a:t>Lucky you!!” (when you get a teacher you don’t really wa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2e"/>
                </a:solidFill>
                <a:latin typeface="Arial"/>
              </a:rPr>
              <a:t>Dramatic Iro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The audience has important information that characters in a literary work do not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The audience knows that Juliet is only sleeping, but Romeo thinks she is d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1" descr="T970406A"/>
          <p:cNvPicPr/>
          <p:nvPr/>
        </p:nvPicPr>
        <p:blipFill>
          <a:blip r:embed="rId1"/>
          <a:stretch/>
        </p:blipFill>
        <p:spPr>
          <a:xfrm>
            <a:off x="4495680" y="2209680"/>
            <a:ext cx="403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Asi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character’s remark, either to the audience or another character, that others on stage do not hear; reveals the character’s private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MCj02343290000[1]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A speech given by a character alone on stage that lets the audience know what the character is thinking or fe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Juliet’s balcony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9" descr="MCj00897840000[1]"/>
          <p:cNvPicPr/>
          <p:nvPr/>
        </p:nvPicPr>
        <p:blipFill>
          <a:blip r:embed="rId1"/>
          <a:stretch/>
        </p:blipFill>
        <p:spPr>
          <a:xfrm>
            <a:off x="5638680" y="1676520"/>
            <a:ext cx="3505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humorous play on two or more meanings of the same word or on two different words with the same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rove his expensive car into a tree and found out how the Mercedes b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baker stopped making donuts after he got tired of the hole 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isin wined about how he couldn't achieve grape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've seen one shopping center you've seen a 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ish are in schools they sometimes take deb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Anachro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Someone or something that is not in its correct historical or chronological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5" descr="j0250482"/>
          <p:cNvPicPr/>
          <p:nvPr/>
        </p:nvPicPr>
        <p:blipFill>
          <a:blip r:embed="rId1"/>
          <a:stretch/>
        </p:blipFill>
        <p:spPr>
          <a:xfrm>
            <a:off x="5791320" y="1676520"/>
            <a:ext cx="2514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Instructions about the appearance and actions of characters, sets, props, costumes, sound effects, and lighting for a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9" descr="j0336492"/>
          <p:cNvPicPr/>
          <p:nvPr/>
        </p:nvPicPr>
        <p:blipFill>
          <a:blip r:embed="rId1"/>
          <a:stretch/>
        </p:blipFill>
        <p:spPr>
          <a:xfrm>
            <a:off x="5105520" y="1981080"/>
            <a:ext cx="358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e the correct word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Dia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loqu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Mono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Comic 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Dir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mor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b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pl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bal Iro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Iro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act of selecting, designing, adapting to, or modifying the performance space for a pl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7242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figure of speech that is a combination of seemingly contradicto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 from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Romeo and Julie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brawling lov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loving hat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heavy lightness, sick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n you think of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rchy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wfully 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s on t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ld sw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ad s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ly fun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ise f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y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d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A situation or a statement that seems to contradict itself, but on closer inspection, contains a possible tru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wards die many times before their dea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must be cruel to be kin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lle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he repetition of a grammatic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f the people, by the people, for the peopl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"When you are right you cannot be too radical; when you are wrong, you cannot be too conservative."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rtin Luther King, Jr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lle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oday's students can p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pe in their vei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pe in their br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hey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eive it and believe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y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hieve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must know it is not thei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titu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ei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will determine thei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titu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esse Jack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tithe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Opposition; or contrast of ideas or words in a balanced or parallel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 that I loved Caesar l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t that I loved Rome mo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nk or sw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small step for man;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iant leap for all mankind.” Ne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mstr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editorial-02"/>
          <p:cNvPicPr/>
          <p:nvPr/>
        </p:nvPicPr>
        <p:blipFill>
          <a:blip r:embed="rId1"/>
          <a:stretch/>
        </p:blipFill>
        <p:spPr>
          <a:xfrm>
            <a:off x="6629400" y="3124080"/>
            <a:ext cx="223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review of the story; meant to “hook”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In Romeo and Juliet,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oru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was one man, would come out on stage and speak to the audience before the play bega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author’s message or central idea of the sto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int: Find the topic of the story (love, war, etc.) and then ask yourself, “What is the author trying to say about the topic?” (Love conquers all. War has no boundarie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Dialogue and Monolog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Dialog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nversation between 2 or more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onolog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peech by one charact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cec2e"/>
                </a:solidFill>
                <a:latin typeface="Arial"/>
              </a:rPr>
              <a:t>Dra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Literature meant to be performed before an audience by actors on a s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i="1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Romeo and Juli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MCj01346730000[1]"/>
          <p:cNvPicPr/>
          <p:nvPr/>
        </p:nvPicPr>
        <p:blipFill>
          <a:blip r:embed="rId1"/>
          <a:stretch/>
        </p:blipFill>
        <p:spPr>
          <a:xfrm>
            <a:off x="5257800" y="1600200"/>
            <a:ext cx="2817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humorous scene or speech intended to lighten the m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ri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text of a play, including dialogue, stage directions, and scene 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Ac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848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major division of a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hakespeare did not separate his plays into acts; each play was later divided into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five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cts can contain one or more sc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Sce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A subdivision of an act in a p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Each scene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usually takes place in a specific setting and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2e"/>
                </a:solidFill>
                <a:latin typeface="Arial"/>
              </a:rPr>
              <a:t>Blank Ver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oetry or lines of dramatic verse written in unrhymed iambic pentame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mbic pentameter is a line of poetry with 5 pairs of unstressed and stressed syllables, like this: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stressed syll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w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u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ld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ik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i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i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hakespeare wrote most of his plays largely in blank 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lock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ne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th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s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ng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</a:rPr>
              <a:t>Julius Caes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ec2e"/>
                </a:solidFill>
                <a:latin typeface="Arial"/>
              </a:rPr>
              <a:t>Di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fic word choice that an author uses in writ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“…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is is a knavery of them to make me afeard.” Bottom from 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A Midsummer Night’s D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ash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technique that allows a writer to present past events during current eve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eam sequences, memorie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3200400" cy="23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26672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6:04:50Z</dcterms:created>
  <dc:creator>teacher</dc:creator>
  <dc:description/>
  <dc:language>en-US</dc:language>
  <cp:lastModifiedBy>romeoc</cp:lastModifiedBy>
  <dcterms:modified xsi:type="dcterms:W3CDTF">2013-03-06T13:59:19Z</dcterms:modified>
  <cp:revision>45</cp:revision>
  <dc:subject/>
  <dc:title>Drama Vocabulary</dc:title>
</cp:coreProperties>
</file>